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3ED46-851B-4C82-B644-0F4EC1B39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3AF4-33F0-4BBB-A73F-1105793215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823D-6270-4961-82D7-E08E6B1B4C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AAEA-82EC-4722-9BA9-7D6DEFE48D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9836-E408-41C5-96C9-E31C18F150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377B-A7EB-48D8-A07F-B3F29BEFA6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F892-09BE-4174-B34C-E7611AB053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B20D-8E0B-4988-8FA0-E1065F16D9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2105-9DE7-464B-9182-F77A5CD1E0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7C06-BF5D-4B31-9153-C11354854D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5B9F-0106-4DF1-8140-E3315D1000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49A1-605A-42D2-9B90-602BE435DF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3351-C884-4205-A92E-ABB29399C5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8570-4DCB-47FC-AC8F-ADC1787FE8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8ED6-F7DB-4A06-9D55-FFAF2C1FF3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9BE7-B915-4A2B-80E8-F89FC4F165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A0F3-15CF-404C-99B6-773C9D796C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DE34-0C6F-4327-87C3-2326868075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804D-1BC4-4C75-BD69-B254B5EE3C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72BE-1E17-47E1-9ECD-3DC470655F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0F3C-620A-48A3-BC6C-03A888D1C8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55D7-9822-4F3D-B9E8-2BE5F94D7D5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3E3D-8DFB-4C32-BE30-257DEE18C3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5B6DF-B286-4E48-B964-37117A5204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E3C3-7BB5-4EC6-ABAE-B076A873B2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9A47-9122-4AA4-B23D-314B2CE632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6492-6272-4702-8926-6D50458F24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B5E6-B68D-4193-9759-3B759A2ACF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C308-740A-4605-B690-A1903C33F1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91C6-6036-4513-ABCB-3777A3398E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C08C-A48F-4512-91E0-31D8F46381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48D6-1018-413C-B0DD-6EACF25CEE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F8418-96E7-46EB-977E-2973414C8B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BA6E-8A98-4FE0-B66E-1323A8B3A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3FE3-EA29-4B08-A9D9-008556E7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B6DB-3859-47A5-8B77-963A94B0D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F239-3875-4E8E-894F-0EE16A3A0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F10BF-9B4B-47E6-BEA5-892875C26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3EB6-2717-4669-A3C2-DF5AE5D5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B1F9-C11B-487F-8626-0026F159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AC75-C51E-4F75-B1EB-38B9526B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2B5D-A456-49CB-9AEC-355B8FE8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AFDE-B89C-46D4-99E9-056A70A5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08DEE-C68B-4293-8506-8AB47812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F84F-8E2D-4109-8708-70EA9BDE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7E1D-8A07-4D73-A7E9-81C79C0B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8981D-8CEB-4B25-A630-CB209868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0E78-05C4-4B84-A84B-B5844C5F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7738-F190-46A1-A56C-E8D82A572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FC9A-3059-40A6-AC2A-EB2791DB6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9FEF-B6D5-4207-B519-1D9DD403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8C1F-8AD3-4791-BA34-963D0558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B25B-3292-418E-9FA0-D64B3CC8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1A95-897D-43CE-901C-2AE79739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A68F-35F1-4E36-B4BF-DA641DF4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B077-B87E-498D-90B9-9181804C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8490-B6CA-47FD-84B5-D53AC531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37BC-DD75-4ADC-BB0E-35C136EAB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1937-92E7-4A7D-BC72-5174C565CE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movie-History%20of%20Measurement.as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movie-Metric%20System.as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movie-discovery%20by%20trial%20and%20error%20or%20accident.as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movie-Scientific%20Method.asf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hap 2: Measurements and Calculations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295280" y="43430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es #1:  Scientific Metho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6095880" y="5335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Today’s D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a5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1. Who in here wants 100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2. What does the number 100 mean in the above ques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4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4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asurement basic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 Measurements without units are MEANINGLESS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a500"/>
                </a:solidFill>
                <a:latin typeface="Arial"/>
              </a:rPr>
              <a:t>Activit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1. Measure the length of your desk using your palms and fingers.  Write down your measurem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2. Compare your results to 2 people you are sitting ne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3. What did you notice about your measurement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 Must have standard measuring devices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*Read pg 33, 5</a:t>
            </a:r>
            <a:r>
              <a:rPr b="0" lang="en-US" sz="3200" spc="-1" strike="noStrike" baseline="30000">
                <a:solidFill>
                  <a:srgbClr val="ffc000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 paragrap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1. Who keeps track of our standards and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styles for measuring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2. Why do we not use commas in number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in science clas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*Look at pg 34, Table 1– look at the standard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a500"/>
                </a:solidFill>
                <a:latin typeface="Arial"/>
              </a:rPr>
              <a:t>Movi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movie-History of Measurement.as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 Systeme International d’Unites (SI)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 based on metric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 US is only major country NOT using S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*Metric Conversion Act passed in 1975– US agreed to convert to SI on voluntary bas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*HO: Metric System Base Units,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-look at pg 35, Cross-Disciplinary bo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000"/>
                </a:solidFill>
                <a:latin typeface="Tahoma"/>
              </a:rPr>
              <a:t>-look at pg 36, Table 3 (Derived Unit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5" dur="20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0" dur="20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5" dur="2000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a500"/>
                </a:solidFill>
                <a:latin typeface="Arial"/>
              </a:rPr>
              <a:t>Movi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movie-Metric System.as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 SI symbols and nam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write symbol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 nanonseconds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 gigagram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 dekaliter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. micrometer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write nam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 mm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 Mm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 m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. dL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mperature Scales Used in Science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 Celsius (◦C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increments equivalent in size to Kelvins, but represented by different numb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 Kelvin (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standard SI unit of tem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Absolute zero (0 K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coldest temp. possible; temp. at which everything would be froz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*no movement of at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4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4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4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4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6" dur="20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9" dur="200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a500"/>
                </a:solidFill>
                <a:latin typeface="Arial"/>
              </a:rPr>
              <a:t>Discussion:  Temp. Transparenc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Compare 3 temp. scales for water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1. Boiling tem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2. Freezing tem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3. Coldest temp possib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a5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a500"/>
                </a:solidFill>
                <a:latin typeface="Tahoma"/>
              </a:rPr>
              <a:t>1. What steps might a detective take to solve a case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a500"/>
                </a:solidFill>
                <a:latin typeface="Tahoma"/>
              </a:rPr>
              <a:t>2. How would you determine the best way to get to school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a500"/>
                </a:solidFill>
                <a:latin typeface="Tahoma"/>
              </a:rPr>
              <a:t>3. How would the two above processes be similar to how a scientist would make discoveries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20574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hap 2: Measurements and Calculations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295280" y="43430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es #3:  Convers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6095880" y="5335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Today’s D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a500"/>
                </a:solidFill>
                <a:latin typeface="Arial"/>
              </a:rPr>
              <a:t>Activit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1. Using a ruler, measure the front cover of your Chem I book from top to bottom in inches than in centimet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-Compare inch value to centimeter val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-Compare 1 inch to 1 cm on rul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2. Explain why the numbers are different even though they are measuring the same dimens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a5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1. We can relate measurements made in English system to unit in the SI system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length: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1.0936 yard  =  1 m 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2. We can relate measurements made in an SI unit to another SI uni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length:  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1 m  =  1000 m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3. We can do this </a:t>
            </a:r>
            <a:r>
              <a:rPr b="0" lang="en-US" sz="3200" spc="-1" strike="noStrike" u="sng">
                <a:solidFill>
                  <a:srgbClr val="f8a500"/>
                </a:solidFill>
                <a:uFillTx/>
                <a:latin typeface="Tahoma"/>
              </a:rPr>
              <a:t>mathematically</a:t>
            </a: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 using…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mensional Analysi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Def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method to convert from one unit to another using conversion f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onversion factor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equivalents between differing units written as a rat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 HO:  SI Units and Conversion F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*highlight the SI standard units listed under each dimen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a5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1. When you multiply by 1 do you change the numbe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Ex:  2 m </a:t>
            </a:r>
            <a:r>
              <a:rPr b="0" lang="en-US" sz="2000" spc="-1" strike="noStrike">
                <a:solidFill>
                  <a:srgbClr val="f8a5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 1 = 2 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2. When you use conversion factors you are multiplying by 1,  thus we are NOT changing the measurement only the value to which it is being compared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Ex:  1 m  =  1000 mm              1 =    1 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1000 m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4000 mm   </a:t>
            </a:r>
            <a:r>
              <a:rPr b="0" lang="en-US" sz="2000" spc="-1" strike="noStrike">
                <a:solidFill>
                  <a:srgbClr val="f8a500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1m   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    =   4 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            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1000 m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Line 4"/>
          <p:cNvSpPr/>
          <p:nvPr/>
        </p:nvSpPr>
        <p:spPr>
          <a:xfrm>
            <a:off x="4800600" y="4876920"/>
            <a:ext cx="838080" cy="0"/>
          </a:xfrm>
          <a:prstGeom prst="line">
            <a:avLst/>
          </a:prstGeom>
          <a:ln w="9360">
            <a:solidFill>
              <a:srgbClr val="f8a5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Line 5"/>
          <p:cNvSpPr/>
          <p:nvPr/>
        </p:nvSpPr>
        <p:spPr>
          <a:xfrm>
            <a:off x="6781680" y="5105520"/>
            <a:ext cx="1447920" cy="0"/>
          </a:xfrm>
          <a:prstGeom prst="line">
            <a:avLst/>
          </a:prstGeom>
          <a:ln w="9360">
            <a:solidFill>
              <a:srgbClr val="f8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Line 6"/>
          <p:cNvSpPr/>
          <p:nvPr/>
        </p:nvSpPr>
        <p:spPr>
          <a:xfrm>
            <a:off x="3276720" y="6095880"/>
            <a:ext cx="1371600" cy="0"/>
          </a:xfrm>
          <a:prstGeom prst="line">
            <a:avLst/>
          </a:prstGeom>
          <a:ln w="9360">
            <a:solidFill>
              <a:srgbClr val="f8a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8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a5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1. However, not all conversions are done using dimensional analysi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2. Temperature conversions are done using equations…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emperature convers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◦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F to ◦C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large # to small #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◦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 to ◦F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small # to large #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◦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C to K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K to ◦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6" dur="20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770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2" dur="77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4" dur="77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6" dur="77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are scientific discoveries made?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erendipit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discovery made by accident while looking for something el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*Ex: 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-finding a dollar, while looking for a so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-discovery of Tefl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-coating on windshiel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 trial and err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1294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hap 2: Measurements and Calculations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28240" y="37335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otes #6:  Reliability of Measuremen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6095880" y="5335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Today’s D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ivit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en-US" sz="3600" spc="-1" strike="noStrike">
                <a:solidFill>
                  <a:srgbClr val="f8a500"/>
                </a:solidFill>
                <a:latin typeface="Tahoma"/>
              </a:rPr>
              <a:t> Measure your book from top to bottom </a:t>
            </a:r>
            <a:r>
              <a:rPr b="0" lang="en-US" sz="2000" spc="-1" strike="noStrike">
                <a:solidFill>
                  <a:srgbClr val="f8a500"/>
                </a:solidFill>
                <a:latin typeface="Tahoma"/>
              </a:rPr>
              <a:t>(just as you did previously)</a:t>
            </a:r>
            <a:r>
              <a:rPr b="0" lang="en-US" sz="3600" spc="-1" strike="noStrike">
                <a:solidFill>
                  <a:srgbClr val="f8a500"/>
                </a:solidFill>
                <a:latin typeface="Tahoma"/>
              </a:rPr>
              <a:t> cover in centimeters onl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en-US" sz="3600" spc="-1" strike="noStrike">
                <a:solidFill>
                  <a:srgbClr val="f8a500"/>
                </a:solidFill>
                <a:latin typeface="Tahoma"/>
              </a:rPr>
              <a:t> Compare your measurement with at least 2 people around you and write down what you foun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en-US" sz="3600" spc="-1" strike="noStrike">
                <a:solidFill>
                  <a:srgbClr val="f8a500"/>
                </a:solidFill>
                <a:latin typeface="Tahoma"/>
              </a:rPr>
              <a:t> Can measurements be exact?  Why or Why not?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2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 Measurement is Perfec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.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accuracy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values close to most accepted answ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errors cause inaccuraci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*most of time, </a:t>
            </a:r>
            <a:r>
              <a:rPr b="0" lang="en-US" sz="3200" spc="-1" strike="noStrike" u="sng">
                <a:solidFill>
                  <a:srgbClr val="f8a500"/>
                </a:solidFill>
                <a:uFillTx/>
                <a:latin typeface="Tahoma"/>
              </a:rPr>
              <a:t>can be</a:t>
            </a: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 improved by being </a:t>
            </a: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more carefu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judge accuracy using: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percent error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a500"/>
                </a:solidFill>
                <a:latin typeface="Arial"/>
              </a:rPr>
              <a:t>Activity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1. 2 pair of students measure width of book  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(from left to right– NOT from top to bottom)</a:t>
            </a: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 with the 3 differently calibrated rulers using as many decimal places for their values as the ruler will allow.  Have each pair compare their measured value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2. What can be said about each measuremen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3. Which would be the best measurement and wh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.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precision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 values close to one anot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describes limitations of measuring instru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Ex:  meterstick divided into cm is not a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cise as one divided into m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8a500"/>
                </a:solidFill>
                <a:latin typeface="Tahoma"/>
              </a:rPr>
              <a:t>*thus, precision can only be improved if a more </a:t>
            </a:r>
            <a:r>
              <a:rPr b="0" lang="en-US" sz="24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8a500"/>
                </a:solidFill>
                <a:latin typeface="Tahoma"/>
              </a:rPr>
              <a:t>precise measuring device is avail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keep track of precision using: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ignificant figures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sig. figs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thus, may need to: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ound or use scientific notation (sci. not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. accuracy vs precision: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artboard  </a:t>
            </a:r>
            <a:r>
              <a:rPr b="0" lang="en-US" sz="2400" spc="-1" strike="noStrike">
                <a:solidFill>
                  <a:srgbClr val="f8a500"/>
                </a:solidFill>
                <a:latin typeface="Tahoma"/>
              </a:rPr>
              <a:t>(bull’s eye is most accepted posi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8" name="Group 3"/>
          <p:cNvGrpSpPr/>
          <p:nvPr/>
        </p:nvGrpSpPr>
        <p:grpSpPr>
          <a:xfrm>
            <a:off x="228600" y="1981080"/>
            <a:ext cx="8381880" cy="2514600"/>
            <a:chOff x="228600" y="1981080"/>
            <a:chExt cx="8381880" cy="2514600"/>
          </a:xfrm>
        </p:grpSpPr>
        <p:grpSp>
          <p:nvGrpSpPr>
            <p:cNvPr id="229" name="Group 4"/>
            <p:cNvGrpSpPr/>
            <p:nvPr/>
          </p:nvGrpSpPr>
          <p:grpSpPr>
            <a:xfrm>
              <a:off x="228600" y="1981080"/>
              <a:ext cx="2286000" cy="2514600"/>
              <a:chOff x="228600" y="1981080"/>
              <a:chExt cx="2286000" cy="2514600"/>
            </a:xfrm>
          </p:grpSpPr>
          <p:sp>
            <p:nvSpPr>
              <p:cNvPr id="230" name="Oval 5"/>
              <p:cNvSpPr/>
              <p:nvPr/>
            </p:nvSpPr>
            <p:spPr>
              <a:xfrm>
                <a:off x="228600" y="1981080"/>
                <a:ext cx="2286000" cy="25146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Oval 6"/>
              <p:cNvSpPr/>
              <p:nvPr/>
            </p:nvSpPr>
            <p:spPr>
              <a:xfrm>
                <a:off x="609480" y="2438280"/>
                <a:ext cx="1524240" cy="1676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Oval 7"/>
              <p:cNvSpPr/>
              <p:nvPr/>
            </p:nvSpPr>
            <p:spPr>
              <a:xfrm>
                <a:off x="1066680" y="2895480"/>
                <a:ext cx="685800" cy="7621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33" name="Group 8"/>
            <p:cNvGrpSpPr/>
            <p:nvPr/>
          </p:nvGrpSpPr>
          <p:grpSpPr>
            <a:xfrm>
              <a:off x="3200400" y="1981080"/>
              <a:ext cx="2286000" cy="2514600"/>
              <a:chOff x="3200400" y="1981080"/>
              <a:chExt cx="2286000" cy="2514600"/>
            </a:xfrm>
          </p:grpSpPr>
          <p:sp>
            <p:nvSpPr>
              <p:cNvPr id="234" name="Oval 9"/>
              <p:cNvSpPr/>
              <p:nvPr/>
            </p:nvSpPr>
            <p:spPr>
              <a:xfrm>
                <a:off x="3200400" y="1981080"/>
                <a:ext cx="2286000" cy="25146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Oval 10"/>
              <p:cNvSpPr/>
              <p:nvPr/>
            </p:nvSpPr>
            <p:spPr>
              <a:xfrm>
                <a:off x="3581280" y="2438280"/>
                <a:ext cx="1524240" cy="1676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Oval 11"/>
              <p:cNvSpPr/>
              <p:nvPr/>
            </p:nvSpPr>
            <p:spPr>
              <a:xfrm>
                <a:off x="4038480" y="2895480"/>
                <a:ext cx="685800" cy="7621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37" name="Group 12"/>
            <p:cNvGrpSpPr/>
            <p:nvPr/>
          </p:nvGrpSpPr>
          <p:grpSpPr>
            <a:xfrm>
              <a:off x="6324480" y="1981080"/>
              <a:ext cx="2286000" cy="2514600"/>
              <a:chOff x="6324480" y="1981080"/>
              <a:chExt cx="2286000" cy="2514600"/>
            </a:xfrm>
          </p:grpSpPr>
          <p:sp>
            <p:nvSpPr>
              <p:cNvPr id="238" name="Oval 13"/>
              <p:cNvSpPr/>
              <p:nvPr/>
            </p:nvSpPr>
            <p:spPr>
              <a:xfrm>
                <a:off x="6324480" y="1981080"/>
                <a:ext cx="2286000" cy="25146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Oval 14"/>
              <p:cNvSpPr/>
              <p:nvPr/>
            </p:nvSpPr>
            <p:spPr>
              <a:xfrm>
                <a:off x="6705360" y="2438280"/>
                <a:ext cx="1524240" cy="16765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Oval 15"/>
              <p:cNvSpPr/>
              <p:nvPr/>
            </p:nvSpPr>
            <p:spPr>
              <a:xfrm>
                <a:off x="7162560" y="2895480"/>
                <a:ext cx="685800" cy="7621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a500"/>
                </a:solidFill>
                <a:latin typeface="Arial"/>
              </a:rPr>
              <a:t>Movi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movie-discovery by trial and error or accident.as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91404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scientific metho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 logical approach to solving probl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exact steps may vary– its NOT a fixed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*HO:  Sci. Meth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a500"/>
                </a:solidFill>
                <a:latin typeface="Arial"/>
              </a:rPr>
              <a:t>Activity:  Observat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1. The scientific method deals with making good observations and collecting good data—being observant is a mark of a good scientist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2. In your notebook under the title “Observations”, write down as many observations of the object as you can in 1 minute.  Use your senses 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(smell, hearing, seeing).</a:t>
            </a: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  Also, try to estimate some data 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(such</a:t>
            </a:r>
            <a:r>
              <a:rPr b="0" lang="en-US" sz="2800" spc="-1" strike="noStrike">
                <a:solidFill>
                  <a:srgbClr val="33cc33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8a500"/>
                </a:solidFill>
                <a:latin typeface="Tahoma"/>
              </a:rPr>
              <a:t>as height, width, etc…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3. Make sure you observe w/o prejudges.  Do not make inferences or interpretations.  Make observations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a5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Look at your observations of the potato “candle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1. Give me some qualitative observations you ma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2. What could have been some you could have made, if you were allowed to observe it close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3. Give me some quantitative observations you ma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4. What could have been some you could have made, if you were allowed to observe it close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4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4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a5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Atomic Theory- explains ideas about the atom.  It has changed many times thru histor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Law of Gravitation- describes gravity, but as of right now there is NO explanation for 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movie-Scientific Method.as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a500"/>
                </a:solidFill>
                <a:latin typeface="Tahoma"/>
              </a:rPr>
              <a:t>*What is wrong with 1 of the statements from the movi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0574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hap 2: Measurements and Calculations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228240" y="43430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es #2: Measuremen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Quantitative Dat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6095880" y="5335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Today’s D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22:11:43Z</dcterms:created>
  <dc:creator>Amy Beiter</dc:creator>
  <dc:description/>
  <cp:keywords/>
  <dc:language>en-US</dc:language>
  <cp:lastModifiedBy>Teacher</cp:lastModifiedBy>
  <dcterms:modified xsi:type="dcterms:W3CDTF">2010-10-12T12:36:44Z</dcterms:modified>
  <cp:revision>75</cp:revision>
  <dc:subject/>
  <dc:title>Chap 2: Measurements and Calcul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037791033</vt:lpwstr>
  </property>
</Properties>
</file>